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</p:sldIdLst>
  <p:sldSz cx="9144000" cy="6858000"/>
  <p:notesSz cx="6889750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0" y="0"/>
            <a:ext cx="68904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86200" cy="5014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dt" idx="4"/>
          </p:nvPr>
        </p:nvSpPr>
        <p:spPr>
          <a:xfrm>
            <a:off x="3901680" y="-360"/>
            <a:ext cx="2986200" cy="5014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sldImg"/>
          </p:nvPr>
        </p:nvSpPr>
        <p:spPr>
          <a:xfrm>
            <a:off x="939600" y="750960"/>
            <a:ext cx="5010120" cy="3757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1600" cy="45100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ftr" idx="5"/>
          </p:nvPr>
        </p:nvSpPr>
        <p:spPr>
          <a:xfrm>
            <a:off x="-360" y="9515160"/>
            <a:ext cx="2986200" cy="5014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 type="sldNum" idx="6"/>
          </p:nvPr>
        </p:nvSpPr>
        <p:spPr>
          <a:xfrm>
            <a:off x="3901680" y="9515160"/>
            <a:ext cx="2986200" cy="5014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50279-84C6-44E5-92A1-08E2269B3CEA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160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Ograda številke diapozitiva 3"/>
          <p:cNvSpPr/>
          <p:nvPr/>
        </p:nvSpPr>
        <p:spPr>
          <a:xfrm>
            <a:off x="3902040" y="9515520"/>
            <a:ext cx="29862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31DD3-5BBC-4F5F-ADE0-6DE3833A397C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160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Ograda številke diapozitiva 3"/>
          <p:cNvSpPr/>
          <p:nvPr/>
        </p:nvSpPr>
        <p:spPr>
          <a:xfrm>
            <a:off x="3902040" y="9515520"/>
            <a:ext cx="29862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DAB42-95E2-4481-9A7A-0874EDC16ABF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160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Ograda številke diapozitiva 3"/>
          <p:cNvSpPr/>
          <p:nvPr/>
        </p:nvSpPr>
        <p:spPr>
          <a:xfrm>
            <a:off x="3902040" y="9515520"/>
            <a:ext cx="29862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49FCD-606C-4C29-A047-9C9E10EA5001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160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Ograda številke diapozitiva 3"/>
          <p:cNvSpPr/>
          <p:nvPr/>
        </p:nvSpPr>
        <p:spPr>
          <a:xfrm>
            <a:off x="3902040" y="9515520"/>
            <a:ext cx="29862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2B24C-0AF8-47EC-B89D-413B4DBD4841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160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Ograda številke diapozitiva 3"/>
          <p:cNvSpPr/>
          <p:nvPr/>
        </p:nvSpPr>
        <p:spPr>
          <a:xfrm>
            <a:off x="3902040" y="9515520"/>
            <a:ext cx="29862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AB5E0-AA76-4EE9-B479-A1B16B5ADFCE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160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Ograda številke diapozitiva 3"/>
          <p:cNvSpPr/>
          <p:nvPr/>
        </p:nvSpPr>
        <p:spPr>
          <a:xfrm>
            <a:off x="3902040" y="9515520"/>
            <a:ext cx="29862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5F9DB-6BD0-4892-A9DB-7C532F927609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160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Ograda številke diapozitiva 3"/>
          <p:cNvSpPr/>
          <p:nvPr/>
        </p:nvSpPr>
        <p:spPr>
          <a:xfrm>
            <a:off x="3902040" y="9515520"/>
            <a:ext cx="29862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4A2F8-80CA-46AC-859F-B9CC795B706B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160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Ograda številke diapozitiva 3"/>
          <p:cNvSpPr/>
          <p:nvPr/>
        </p:nvSpPr>
        <p:spPr>
          <a:xfrm>
            <a:off x="3902040" y="9515520"/>
            <a:ext cx="29862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9C81F-7FBE-4913-B318-E7E4B2D41DC2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160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Ograda številke diapozitiva 3"/>
          <p:cNvSpPr/>
          <p:nvPr/>
        </p:nvSpPr>
        <p:spPr>
          <a:xfrm>
            <a:off x="3902040" y="9515520"/>
            <a:ext cx="29862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5B45C-C037-408C-A13C-30049D607249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160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Ograda številke diapozitiva 3"/>
          <p:cNvSpPr/>
          <p:nvPr/>
        </p:nvSpPr>
        <p:spPr>
          <a:xfrm>
            <a:off x="3902040" y="9515520"/>
            <a:ext cx="29862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1FD45-E40C-45C6-A01B-18DB95950C12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160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Ograda številke diapozitiva 3"/>
          <p:cNvSpPr/>
          <p:nvPr/>
        </p:nvSpPr>
        <p:spPr>
          <a:xfrm>
            <a:off x="3902040" y="9515520"/>
            <a:ext cx="29862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920AA-9792-4D6A-96EE-61A66D83FB75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1600" cy="45100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Calibri"/>
              </a:rPr>
              <a:t>Omejitve pri razporejanju pravic pora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V okviru razporejanja pravic porabe znotraj OP je treba upoštevati pravila, ki jih je postavila EU glede razporejanja pravic porabe evropske kohezijske politike in ki jih na kratko lahko strnemo v naslednj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prerazporejanje pravic porabe Evropskega sklada za regionalni razvoj (ESRR) in Evropskega socialnega sklada (ESS) med kohezijskima regijama ni mogoče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tematska osredotočenost zahteva, da se v bolj razviti regiji (Zahodna Slovenija) najmanj 80 % vseh pravic porabe ESRR, v manj razviti regiji (Vzhodna Slovenija) pa najmanj 50 % vseh pravic porabe ESRR nameni dvema ali več prednostnim osem v okviru prednostnih osi: 1 – </a:t>
            </a:r>
            <a:r>
              <a:rPr b="0" i="1" lang="sl-SI" sz="1200" spc="-1" strike="noStrike">
                <a:solidFill>
                  <a:srgbClr val="000000"/>
                </a:solidFill>
                <a:latin typeface="Calibri"/>
              </a:rPr>
              <a:t>Mednarodna konkurenčnost raziskav</a:t>
            </a: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, 2 – </a:t>
            </a:r>
            <a:r>
              <a:rPr b="0" i="1" lang="sl-SI" sz="1200" spc="-1" strike="noStrike">
                <a:solidFill>
                  <a:srgbClr val="000000"/>
                </a:solidFill>
                <a:latin typeface="Calibri"/>
              </a:rPr>
              <a:t>Povečanje dostopnosti do IKT</a:t>
            </a: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, 3 – </a:t>
            </a:r>
            <a:r>
              <a:rPr b="0" i="1" lang="sl-SI" sz="1200" spc="-1" strike="noStrike">
                <a:solidFill>
                  <a:srgbClr val="000000"/>
                </a:solidFill>
                <a:latin typeface="Calibri"/>
              </a:rPr>
              <a:t>Dinamično in konkurenčno podjetništvo</a:t>
            </a: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 in 4 – </a:t>
            </a:r>
            <a:r>
              <a:rPr b="0" i="1" lang="sl-SI" sz="1200" spc="-1" strike="noStrike">
                <a:solidFill>
                  <a:srgbClr val="000000"/>
                </a:solidFill>
                <a:latin typeface="Calibri"/>
              </a:rPr>
              <a:t>Trajnostna raba in proizvodnja energije ter pametna omrežja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za področje podnebnih sprememb se nameni najmanj 20 % pravic porabe, z upoštevanjem prispevka, kot je za posamezno kodo intervencij predpisan s strani E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V okviru veljavnega OP je v bolj razviti regiji (Zahod) tematska osredotočenost 80,9 %, medtem ko je v manj razviti regiji (Vzhod) tematska osredotočenost 75,5 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Ograda številke diapozitiva 3"/>
          <p:cNvSpPr/>
          <p:nvPr/>
        </p:nvSpPr>
        <p:spPr>
          <a:xfrm>
            <a:off x="3902040" y="9515520"/>
            <a:ext cx="29862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A5BDD-9D86-4E92-8498-6D271853326D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160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Ograda številke diapozitiva 3"/>
          <p:cNvSpPr/>
          <p:nvPr/>
        </p:nvSpPr>
        <p:spPr>
          <a:xfrm>
            <a:off x="3902040" y="9515520"/>
            <a:ext cx="29862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C2ABD-E3A7-4D92-AF58-943CEE589B32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160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Ograda številke diapozitiva 3"/>
          <p:cNvSpPr/>
          <p:nvPr/>
        </p:nvSpPr>
        <p:spPr>
          <a:xfrm>
            <a:off x="3902040" y="9515520"/>
            <a:ext cx="29862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0BE4D-B8C6-4C69-907D-6B6599AC0172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160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Ograda številke diapozitiva 3"/>
          <p:cNvSpPr/>
          <p:nvPr/>
        </p:nvSpPr>
        <p:spPr>
          <a:xfrm>
            <a:off x="3902040" y="9515520"/>
            <a:ext cx="29862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C2A7C-9D3E-4E35-90B3-696DFC3A7E2B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4869-03B8-4D79-B3BB-B9B5AB6E9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37AC-6251-4B52-8FD7-3CAE29233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EE91-E731-4068-8892-36A8CDBCC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7EEB-3D5F-4121-9164-671D58B29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1015-CE6F-4207-984B-D769CB5FD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D6F5-E497-46CD-AAB7-AD450D2DD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1F7C-240F-489C-896F-3BA04DAC4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DB0D-D3D4-408A-B011-D0EBFED64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446F-AEE2-4258-B3DD-A2955BDDD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C20B-A4E8-43F8-A414-7F3183B8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C517-D9D3-4B24-A59B-0D27301F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77CF-C582-4D24-9F65-74BB330BD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A63F6-7F9C-4FBE-9E17-8FF2AA027F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938160" y="0"/>
            <a:ext cx="784080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70c0"/>
                </a:solidFill>
                <a:latin typeface="Calibri"/>
                <a:ea typeface="Arial"/>
              </a:rPr>
              <a:t>Sprememba OP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TextBox 1"/>
          <p:cNvSpPr/>
          <p:nvPr/>
        </p:nvSpPr>
        <p:spPr>
          <a:xfrm>
            <a:off x="182520" y="1817640"/>
            <a:ext cx="69501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70c0"/>
                </a:solidFill>
                <a:latin typeface="Calibri"/>
              </a:rPr>
              <a:t>4. Redna seja OzS, </a:t>
            </a: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Bled, 13. junij 201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extBox 1"/>
          <p:cNvSpPr/>
          <p:nvPr/>
        </p:nvSpPr>
        <p:spPr>
          <a:xfrm>
            <a:off x="195120" y="222120"/>
            <a:ext cx="787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70c0"/>
                </a:solidFill>
                <a:latin typeface="Calibri"/>
              </a:rPr>
              <a:t>Tehnična prilagoditev – alokacija pravic porabe v evrih (EU de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9" name=""/>
          <p:cNvGraphicFramePr/>
          <p:nvPr/>
        </p:nvGraphicFramePr>
        <p:xfrm>
          <a:off x="262080" y="1255680"/>
          <a:ext cx="8351640" cy="5451480"/>
        </p:xfrm>
        <a:graphic>
          <a:graphicData uri="http://schemas.openxmlformats.org/drawingml/2006/table">
            <a:tbl>
              <a:tblPr/>
              <a:tblGrid>
                <a:gridCol w="1170000"/>
                <a:gridCol w="923760"/>
                <a:gridCol w="923760"/>
                <a:gridCol w="770040"/>
                <a:gridCol w="801720"/>
                <a:gridCol w="965160"/>
                <a:gridCol w="863640"/>
                <a:gridCol w="1035000"/>
                <a:gridCol w="898560"/>
              </a:tblGrid>
              <a:tr h="750240">
                <a:tc rowSpan="2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emeljitev globalnega strateškega okvi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 rowSpan="2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dn. 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 rowSpan="2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dn. naložb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 gridSpan="2" rowSpan="2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hezijska regija (Zaho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hezijska regija (Vzho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lotna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eece1"/>
                    </a:solidFill>
                  </a:tcPr>
                </a:tc>
                <a:tc rowSpan="2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kupa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839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loveni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32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kl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R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R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S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4032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frastruktu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14.8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.085.13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.00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frastruktu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00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00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frastruktu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.292.4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.676.53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.968.99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Človeški v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000.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000.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Človeški v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256.1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256.1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Človeški v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7.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2.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0.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8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mesni sešteve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292.46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.056.1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36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KUPA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 gridSpan="4"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.348.62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.676.53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6.025.15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0" name=""/>
          <p:cNvGraphicFramePr/>
          <p:nvPr/>
        </p:nvGraphicFramePr>
        <p:xfrm>
          <a:off x="291960" y="1112760"/>
          <a:ext cx="8339400" cy="5608800"/>
        </p:xfrm>
        <a:graphic>
          <a:graphicData uri="http://schemas.openxmlformats.org/drawingml/2006/table">
            <a:tbl>
              <a:tblPr/>
              <a:tblGrid>
                <a:gridCol w="2206800"/>
                <a:gridCol w="1073160"/>
                <a:gridCol w="1109520"/>
                <a:gridCol w="1096920"/>
                <a:gridCol w="1378080"/>
                <a:gridCol w="1474920"/>
              </a:tblGrid>
              <a:tr h="560520">
                <a:tc>
                  <a:txBody>
                    <a:bodyPr lIns="42840" rIns="428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ednostna naložb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avice porab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ehnični poprave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premembe O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kupaj sprememb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ove pravice porab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47480">
                <a:tc>
                  <a:txBody>
                    <a:bodyPr lIns="42840" rIns="428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2  Spodbujanje R&amp;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76.392.6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4.0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4.0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90.392.6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42840" rIns="428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.1 Širokopasovne storit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0.018.2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22.785.3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22.785.3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7.232.9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42840" rIns="428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.1 Podjetništ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38.047.4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80.989.9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80.989.9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57.057.4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42840" rIns="428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.4 mobilnos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9.034.9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2.0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.007.9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3.007.9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2.042.9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42840" rIns="428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.1 Podnebna sprememb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3.021.9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.0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.0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0.021.9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42840" rIns="428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.1 Vlaganje v vodni sekto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64.111.3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5.968.9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.0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5.968.9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00.080.3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42840" rIns="428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.1 Železn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3.1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4.9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4.9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98.0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42840" rIns="428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.2 Regionalna mobiln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9.668.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8.767.2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8.767.2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8.435.2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42840" rIns="428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.3 Odpravljanje ozkih gr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9.992.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 4.9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4.9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.092.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42840" rIns="428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.3 Aktivno in zdravo staran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7.536.7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0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0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.536.7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42840" rIns="428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.2 trajnostne storit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9.547.3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256.1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256.1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.803.4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42840" rIns="428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.1 Instituc. zmogljiv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2.058.6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.858.6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1" name="Rectangle 1"/>
          <p:cNvSpPr/>
          <p:nvPr/>
        </p:nvSpPr>
        <p:spPr>
          <a:xfrm>
            <a:off x="1952640" y="1519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TextBox 1"/>
          <p:cNvSpPr/>
          <p:nvPr/>
        </p:nvSpPr>
        <p:spPr>
          <a:xfrm>
            <a:off x="195120" y="222120"/>
            <a:ext cx="787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70c0"/>
                </a:solidFill>
                <a:latin typeface="Calibri"/>
              </a:rPr>
              <a:t>Sumarni pregled (re)alokacije pravic porab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3" name=""/>
          <p:cNvGraphicFramePr/>
          <p:nvPr/>
        </p:nvGraphicFramePr>
        <p:xfrm>
          <a:off x="146160" y="927000"/>
          <a:ext cx="8242200" cy="5540400"/>
        </p:xfrm>
        <a:graphic>
          <a:graphicData uri="http://schemas.openxmlformats.org/drawingml/2006/table">
            <a:tbl>
              <a:tblPr/>
              <a:tblGrid>
                <a:gridCol w="1146240"/>
                <a:gridCol w="777600"/>
                <a:gridCol w="1146240"/>
                <a:gridCol w="1239840"/>
                <a:gridCol w="1417680"/>
                <a:gridCol w="1417680"/>
                <a:gridCol w="1096920"/>
              </a:tblGrid>
              <a:tr h="443160">
                <a:tc gridSpan="2"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eljavni 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o spremembi 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azlika (evrov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azli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 gridSpan="2" rowSpan="2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SR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zhod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82.015.2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07.392.8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5.377.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2,8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Zahod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08.377.6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09.292.5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14.8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0,1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 gridSpan="3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kupaj ESR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390.392.8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416.685.3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6.292.4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371520">
                <a:tc gridSpan="2" rowSpan="2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zhod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68.794.9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79.473.5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.678.5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2,9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Zahod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38.918.4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39.296.0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77.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0,1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 gridSpan="3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kupaj 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07.713.4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18.769.5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056.1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371520">
                <a:tc gridSpan="2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lot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95.370.3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14.046.8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.676.5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2,0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 gridSpan="3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kupaj 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95.370.3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14.046.8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14.046.8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.676.5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371520">
                <a:tc gridSpan="2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YE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zhod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.423.0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0,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 gridSpan="3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kupaj YE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.423.0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.423.0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.423.0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351000">
                <a:tc gridSpan="2" rowSpan="3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P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zhod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269.233.3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305.289.4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6.056.1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2,8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Zahod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47.296.0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48.588.5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292.4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0,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lot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95.370.3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14.046.8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.676.5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2,0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KUPAJ OP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011.899.7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.067.924.9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6.025.1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1,8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</a:tbl>
          </a:graphicData>
        </a:graphic>
      </p:graphicFrame>
      <p:sp>
        <p:nvSpPr>
          <p:cNvPr id="594" name="TextBox 1"/>
          <p:cNvSpPr/>
          <p:nvPr/>
        </p:nvSpPr>
        <p:spPr>
          <a:xfrm>
            <a:off x="195120" y="222120"/>
            <a:ext cx="787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70c0"/>
                </a:solidFill>
                <a:latin typeface="Calibri"/>
              </a:rPr>
              <a:t>Pregled pravic porabe OP po skladi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5" name=""/>
          <p:cNvGraphicFramePr/>
          <p:nvPr/>
        </p:nvGraphicFramePr>
        <p:xfrm>
          <a:off x="219240" y="1000080"/>
          <a:ext cx="8169120" cy="5586480"/>
        </p:xfrm>
        <a:graphic>
          <a:graphicData uri="http://schemas.openxmlformats.org/drawingml/2006/table">
            <a:tbl>
              <a:tblPr/>
              <a:tblGrid>
                <a:gridCol w="4803480"/>
                <a:gridCol w="1465560"/>
                <a:gridCol w="1900080"/>
              </a:tblGrid>
              <a:tr h="70164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ednostna naložb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Znižanje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zvišanje F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erazporeditev na/i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70164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2 Spodbujanje naložb podjetij v raziskave in inovacij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40.00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+40.00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607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.1 Spodbujanje podjetništ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120.00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0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                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.1 Spodbujanje podjetništ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+39.010.0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7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           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.4. Trajnostna mobiln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.00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7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               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.1 Vlaganje v vodni sekto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+10.00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.1 Razvoj in obnova celostnih železniških sistemo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7.222.6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.2 Izboljšanje regionalne mobil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+28.767.2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7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.1 Spodbujanje energetske učinkovit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25.00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+25.00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610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.3 Ukrepi za izboljšanje urbanega okol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+5.00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5.00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70164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KUPA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180.00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+180.00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6" name="Rectangle 1"/>
          <p:cNvSpPr/>
          <p:nvPr/>
        </p:nvSpPr>
        <p:spPr>
          <a:xfrm>
            <a:off x="2271600" y="27781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TextBox 1"/>
          <p:cNvSpPr/>
          <p:nvPr/>
        </p:nvSpPr>
        <p:spPr>
          <a:xfrm>
            <a:off x="195120" y="222120"/>
            <a:ext cx="787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70c0"/>
                </a:solidFill>
                <a:latin typeface="Calibri"/>
              </a:rPr>
              <a:t>Pregled sprememb na področju F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extBox 1"/>
          <p:cNvSpPr/>
          <p:nvPr/>
        </p:nvSpPr>
        <p:spPr>
          <a:xfrm>
            <a:off x="657360" y="314280"/>
            <a:ext cx="67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70c0"/>
                </a:solidFill>
                <a:latin typeface="Calibri"/>
              </a:rPr>
              <a:t>ROKI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3600" spc="-1" strike="noStrike">
                <a:solidFill>
                  <a:srgbClr val="0070c0"/>
                </a:solidFill>
                <a:latin typeface="Calibri"/>
              </a:rPr>
              <a:t>ZA SPREMEMBO O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TextBox 2"/>
          <p:cNvSpPr/>
          <p:nvPr/>
        </p:nvSpPr>
        <p:spPr>
          <a:xfrm>
            <a:off x="133200" y="900000"/>
            <a:ext cx="8729640" cy="56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maj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Calibri"/>
                <a:ea typeface="Arial"/>
              </a:rPr>
              <a:t>neformalno tehnično usklajevanje z 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Calibri"/>
                <a:ea typeface="Arial"/>
              </a:rPr>
              <a:t>usklajevanje z kohezijskima regij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junij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Calibri"/>
                <a:ea typeface="Arial"/>
              </a:rPr>
              <a:t>sprejem izhodišč na Vladi 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Calibri"/>
                <a:ea typeface="Arial"/>
              </a:rPr>
              <a:t>predstavitev/potrditev na svetih kohezijskih regij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Calibri"/>
                <a:ea typeface="Arial"/>
              </a:rPr>
              <a:t>potrditev/razprava na Odboru za spremljan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Calibri"/>
                <a:ea typeface="Arial"/>
              </a:rPr>
              <a:t>možna dodatna usklajevanja z 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julij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Calibri"/>
                <a:ea typeface="Arial"/>
              </a:rPr>
              <a:t>formalna vložitev predloga sprememb OP 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oktober (predvidom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Calibri"/>
                <a:ea typeface="Arial"/>
              </a:rPr>
              <a:t>potrditev sprememb s strani 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Box 1"/>
          <p:cNvSpPr/>
          <p:nvPr/>
        </p:nvSpPr>
        <p:spPr>
          <a:xfrm>
            <a:off x="449280" y="485640"/>
            <a:ext cx="67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70c0"/>
                </a:solidFill>
                <a:latin typeface="Calibri"/>
              </a:rPr>
              <a:t>VRS – DRR   1/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TextBox 2"/>
          <p:cNvSpPr/>
          <p:nvPr/>
        </p:nvSpPr>
        <p:spPr>
          <a:xfrm>
            <a:off x="622440" y="1460520"/>
            <a:ext cx="789912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2060"/>
                </a:solidFill>
                <a:latin typeface="Calibri"/>
              </a:rPr>
              <a:t>Vlada Republike Slovenije se je </a:t>
            </a:r>
            <a:r>
              <a:rPr b="1" lang="sl-SI" sz="2600" spc="-1" strike="noStrike">
                <a:solidFill>
                  <a:srgbClr val="002060"/>
                </a:solidFill>
                <a:latin typeface="Calibri"/>
              </a:rPr>
              <a:t>seznanila</a:t>
            </a:r>
            <a:r>
              <a:rPr b="0" lang="sl-SI" sz="2600" spc="-1" strike="noStrike">
                <a:solidFill>
                  <a:srgbClr val="002060"/>
                </a:solidFill>
                <a:latin typeface="Calibri"/>
              </a:rPr>
              <a:t> z Informacijo o pripravi dogovorov za razvoj regij, po ZSRR-2, na osnovi prvega povabila regijam, ki vsebuje projektne predloge, za katere so zagotovljena sredstva do višine </a:t>
            </a:r>
            <a:r>
              <a:rPr b="1" lang="sl-SI" sz="2600" spc="-1" strike="noStrike">
                <a:solidFill>
                  <a:srgbClr val="002060"/>
                </a:solidFill>
                <a:latin typeface="Calibri"/>
              </a:rPr>
              <a:t>96,91 mio EUR</a:t>
            </a:r>
            <a:r>
              <a:rPr b="0" lang="sl-SI" sz="2600" spc="-1" strike="noStrike">
                <a:solidFill>
                  <a:srgbClr val="002060"/>
                </a:solidFill>
                <a:latin typeface="Calibri"/>
              </a:rPr>
              <a:t>, od tega v okviru MOP do </a:t>
            </a:r>
            <a:r>
              <a:rPr b="1" lang="sl-SI" sz="2600" spc="-1" strike="noStrike">
                <a:solidFill>
                  <a:srgbClr val="002060"/>
                </a:solidFill>
                <a:latin typeface="Calibri"/>
              </a:rPr>
              <a:t>višine 59,09 mio EUR</a:t>
            </a:r>
            <a:r>
              <a:rPr b="0" lang="sl-SI" sz="2600" spc="-1" strike="noStrike">
                <a:solidFill>
                  <a:srgbClr val="002060"/>
                </a:solidFill>
                <a:latin typeface="Calibri"/>
              </a:rPr>
              <a:t>, MDDSZ do višine </a:t>
            </a:r>
            <a:r>
              <a:rPr b="1" lang="sl-SI" sz="2600" spc="-1" strike="noStrike">
                <a:solidFill>
                  <a:srgbClr val="002060"/>
                </a:solidFill>
                <a:latin typeface="Calibri"/>
              </a:rPr>
              <a:t>21,40 mio EUR</a:t>
            </a:r>
            <a:r>
              <a:rPr b="0" lang="sl-SI" sz="2600" spc="-1" strike="noStrike">
                <a:solidFill>
                  <a:srgbClr val="002060"/>
                </a:solidFill>
                <a:latin typeface="Calibri"/>
              </a:rPr>
              <a:t>, MzI do višine </a:t>
            </a:r>
            <a:r>
              <a:rPr b="1" lang="sl-SI" sz="2600" spc="-1" strike="noStrike">
                <a:solidFill>
                  <a:srgbClr val="002060"/>
                </a:solidFill>
                <a:latin typeface="Calibri"/>
              </a:rPr>
              <a:t>11,42 mio EUR</a:t>
            </a:r>
            <a:r>
              <a:rPr b="0" lang="sl-SI" sz="2600" spc="-1" strike="noStrike">
                <a:solidFill>
                  <a:srgbClr val="002060"/>
                </a:solidFill>
                <a:latin typeface="Calibri"/>
              </a:rPr>
              <a:t>, MK do višine </a:t>
            </a:r>
            <a:r>
              <a:rPr b="1" lang="sl-SI" sz="2600" spc="-1" strike="noStrike">
                <a:solidFill>
                  <a:srgbClr val="002060"/>
                </a:solidFill>
                <a:latin typeface="Calibri"/>
              </a:rPr>
              <a:t>2,50 mio EUR </a:t>
            </a:r>
            <a:r>
              <a:rPr b="0" lang="sl-SI" sz="2600" spc="-1" strike="noStrike">
                <a:solidFill>
                  <a:srgbClr val="002060"/>
                </a:solidFill>
                <a:latin typeface="Calibri"/>
              </a:rPr>
              <a:t>in MGRT do višine </a:t>
            </a:r>
            <a:r>
              <a:rPr b="1" lang="sl-SI" sz="2600" spc="-1" strike="noStrike">
                <a:solidFill>
                  <a:srgbClr val="002060"/>
                </a:solidFill>
                <a:latin typeface="Calibri"/>
              </a:rPr>
              <a:t>2,50 mio EUR</a:t>
            </a:r>
            <a:r>
              <a:rPr b="0" lang="sl-SI" sz="26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TextBox 1"/>
          <p:cNvSpPr/>
          <p:nvPr/>
        </p:nvSpPr>
        <p:spPr>
          <a:xfrm>
            <a:off x="657360" y="314280"/>
            <a:ext cx="67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70c0"/>
                </a:solidFill>
                <a:latin typeface="Calibri"/>
              </a:rPr>
              <a:t>VRS – DRR  2/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TextBox 2"/>
          <p:cNvSpPr/>
          <p:nvPr/>
        </p:nvSpPr>
        <p:spPr>
          <a:xfrm>
            <a:off x="133200" y="993600"/>
            <a:ext cx="8729640" cy="54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2060"/>
                </a:solidFill>
                <a:latin typeface="Calibri"/>
              </a:rPr>
              <a:t>VRS ugotavlja, da bo na podlagi sprejetih izhodišč za spremembo OP EKP 2014-2020 in dodelitvi dodatnih pravic porabe, za izvedbo prvega in drugega povabila za pripravo dogovorov za razvoj regij, razpoložljivih </a:t>
            </a:r>
            <a:r>
              <a:rPr b="1" lang="sl-SI" sz="2600" spc="-1" strike="noStrike">
                <a:solidFill>
                  <a:srgbClr val="002060"/>
                </a:solidFill>
                <a:latin typeface="Calibri"/>
              </a:rPr>
              <a:t>477,3 mio EUR </a:t>
            </a:r>
            <a:r>
              <a:rPr b="0" lang="sl-SI" sz="2600" spc="-1" strike="noStrike">
                <a:solidFill>
                  <a:srgbClr val="002060"/>
                </a:solidFill>
                <a:latin typeface="Calibri"/>
              </a:rPr>
              <a:t>sredstev EU in slovenske udeležbe, v razmerju in </a:t>
            </a:r>
            <a:r>
              <a:rPr b="1" lang="sl-SI" sz="2600" spc="-1" strike="noStrike">
                <a:solidFill>
                  <a:srgbClr val="002060"/>
                </a:solidFill>
                <a:latin typeface="Calibri"/>
              </a:rPr>
              <a:t>68,79%</a:t>
            </a:r>
            <a:r>
              <a:rPr b="0" lang="sl-SI" sz="2600" spc="-1" strike="noStrike">
                <a:solidFill>
                  <a:srgbClr val="002060"/>
                </a:solidFill>
                <a:latin typeface="Calibri"/>
              </a:rPr>
              <a:t> za KRVS in </a:t>
            </a:r>
            <a:r>
              <a:rPr b="1" lang="sl-SI" sz="2600" spc="-1" strike="noStrike">
                <a:solidFill>
                  <a:srgbClr val="002060"/>
                </a:solidFill>
                <a:latin typeface="Calibri"/>
              </a:rPr>
              <a:t>31,21%</a:t>
            </a:r>
            <a:r>
              <a:rPr b="0" lang="sl-SI" sz="2600" spc="-1" strike="noStrike">
                <a:solidFill>
                  <a:srgbClr val="002060"/>
                </a:solidFill>
                <a:latin typeface="Calibri"/>
              </a:rPr>
              <a:t> za KRZS. Na tej podlagi VRS nalaga MGRT, da po sprejemu Izhodišč za spremembo OP EKP, na VRS, pripravi drugo povabilo za pripravo DRR po ZSRR-2, v okviru katerega bodo za uresničevanje projektov iz instrumenta DRR, na voljo sredstva v skupni višini  </a:t>
            </a:r>
            <a:r>
              <a:rPr b="1" lang="sl-SI" sz="2600" spc="-1" strike="noStrike">
                <a:solidFill>
                  <a:srgbClr val="002060"/>
                </a:solidFill>
                <a:latin typeface="Calibri"/>
              </a:rPr>
              <a:t>425,9</a:t>
            </a:r>
            <a:r>
              <a:rPr b="0" lang="sl-SI" sz="2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sl-SI" sz="2600" spc="-1" strike="noStrike">
                <a:solidFill>
                  <a:srgbClr val="002060"/>
                </a:solidFill>
                <a:latin typeface="Calibri"/>
              </a:rPr>
              <a:t>mio EUR</a:t>
            </a:r>
            <a:r>
              <a:rPr b="0" lang="sl-SI" sz="2600" spc="-1" strike="noStrike">
                <a:solidFill>
                  <a:srgbClr val="002060"/>
                </a:solidFill>
                <a:latin typeface="Calibri"/>
              </a:rPr>
              <a:t>, ob upoštevanju razporeditve sredstev po prednostnih oseh, v okviru OP EKP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TextBox 1"/>
          <p:cNvSpPr/>
          <p:nvPr/>
        </p:nvSpPr>
        <p:spPr>
          <a:xfrm>
            <a:off x="657360" y="314280"/>
            <a:ext cx="67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70c0"/>
                </a:solidFill>
                <a:latin typeface="Calibri"/>
              </a:rPr>
              <a:t>VRS – DRR  3/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5" name=""/>
          <p:cNvGraphicFramePr/>
          <p:nvPr/>
        </p:nvGraphicFramePr>
        <p:xfrm>
          <a:off x="219240" y="1131840"/>
          <a:ext cx="8523000" cy="5151600"/>
        </p:xfrm>
        <a:graphic>
          <a:graphicData uri="http://schemas.openxmlformats.org/drawingml/2006/table">
            <a:tbl>
              <a:tblPr/>
              <a:tblGrid>
                <a:gridCol w="6962760"/>
                <a:gridCol w="1560240"/>
              </a:tblGrid>
              <a:tr h="7318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aziv prednostne naložbe OP EKP 2014-20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Zneski v mio EU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.1 Spodbujanje podjetništv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6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.4 Spodbujanje multimodalne urbane mobilnosti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3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.1 Podpora naložbam za prilagajanje podnebnim spremembam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.1 Vlaganje v vodni sekto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55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.2 Varstvo in obnova biotske raznovrstnos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KUPAJ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21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.2 Izboljšanje regionalne mobilnosti (predlogi držav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6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KUPAJ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77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6" name="Rectangle 3"/>
          <p:cNvSpPr/>
          <p:nvPr/>
        </p:nvSpPr>
        <p:spPr>
          <a:xfrm>
            <a:off x="2158920" y="3078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TextBox 1"/>
          <p:cNvSpPr/>
          <p:nvPr/>
        </p:nvSpPr>
        <p:spPr>
          <a:xfrm>
            <a:off x="144360" y="282600"/>
            <a:ext cx="713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70c0"/>
                </a:solidFill>
                <a:latin typeface="Calibri"/>
              </a:rPr>
              <a:t>NEPOSREDNA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3600" spc="-1" strike="noStrike">
                <a:solidFill>
                  <a:srgbClr val="0070c0"/>
                </a:solidFill>
                <a:latin typeface="Calibri"/>
              </a:rPr>
              <a:t>SREDSTVA ZA REGIONALNI RAZVOJ V O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TextBox 2"/>
          <p:cNvSpPr/>
          <p:nvPr/>
        </p:nvSpPr>
        <p:spPr>
          <a:xfrm>
            <a:off x="363600" y="1992240"/>
            <a:ext cx="8058240" cy="38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Sredstva za DRR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477 m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Sredstva za CTN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139 m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Sredstva za CTN FI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    5 m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Sredstva CLLD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  30 m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----------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SKUPAJ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651 m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xtBox 1"/>
          <p:cNvSpPr/>
          <p:nvPr/>
        </p:nvSpPr>
        <p:spPr>
          <a:xfrm>
            <a:off x="255600" y="355680"/>
            <a:ext cx="67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70c0"/>
                </a:solidFill>
                <a:latin typeface="Calibri"/>
              </a:rPr>
              <a:t>RAZLOGI ZA SPREMEMBO O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extBox 2"/>
          <p:cNvSpPr/>
          <p:nvPr/>
        </p:nvSpPr>
        <p:spPr>
          <a:xfrm>
            <a:off x="571680" y="1724040"/>
            <a:ext cx="7561080" cy="40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Tehnična prilagoditev zaradi povečanja skupne ovojnice za Republiko Slovenij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Ustvarjanje pogojev za izvedbo ključnih investicij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Spremenjene predpostavke, predvsem glede uporabe finančnih instrument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Priprava podlag za pripravo dogovorov za razvoj regij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TextBox 1"/>
          <p:cNvSpPr/>
          <p:nvPr/>
        </p:nvSpPr>
        <p:spPr>
          <a:xfrm>
            <a:off x="657360" y="647640"/>
            <a:ext cx="67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70c0"/>
                </a:solidFill>
                <a:latin typeface="Calibri"/>
              </a:rPr>
              <a:t>TEHNIČNA PRILAGODITE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TextBox 2"/>
          <p:cNvSpPr/>
          <p:nvPr/>
        </p:nvSpPr>
        <p:spPr>
          <a:xfrm>
            <a:off x="352440" y="1982880"/>
            <a:ext cx="837720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Dodatnih 56 mio evr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Delitev določena s strani EU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Arial"/>
              </a:rPr>
              <a:t>Vzhodna Slovenija (ESRR)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Arial"/>
              </a:rPr>
              <a:t>36,0 mio evr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Arial"/>
              </a:rPr>
              <a:t>Zahodna Slovenija (ESRR)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Arial"/>
              </a:rPr>
              <a:t>  1,3 mio evr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Arial"/>
              </a:rPr>
              <a:t>Celotna Slovenija (KS)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Arial"/>
              </a:rPr>
              <a:t>18,7 mio evr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Box 1"/>
          <p:cNvSpPr/>
          <p:nvPr/>
        </p:nvSpPr>
        <p:spPr>
          <a:xfrm>
            <a:off x="657360" y="647640"/>
            <a:ext cx="67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70c0"/>
                </a:solidFill>
                <a:latin typeface="Calibri"/>
              </a:rPr>
              <a:t>SPREMEMBE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3600" spc="-1" strike="noStrike">
                <a:solidFill>
                  <a:srgbClr val="0070c0"/>
                </a:solidFill>
                <a:latin typeface="Calibri"/>
              </a:rPr>
              <a:t>PREDPOSTAV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TextBox 2"/>
          <p:cNvSpPr/>
          <p:nvPr/>
        </p:nvSpPr>
        <p:spPr>
          <a:xfrm>
            <a:off x="571680" y="1514520"/>
            <a:ext cx="8057880" cy="48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Predimenzioniran obseg FI v vzhodni regij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Potreben manjši obseg sredstev za širitev širokopasovnih storite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Na področju ekonomsko poslovne infrastrukture kazalniki doseženi z manjšim obsegom sredste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Sofinanciranje energetske prenove stavb v lokalni lasti po modelu energetskega pogodbeništva, brez F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Proga Zidani most – Celje iz sredstev IP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Strategija razvoja prometa v RS – ozko grlo proga Divača - Kop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Box 1"/>
          <p:cNvSpPr/>
          <p:nvPr/>
        </p:nvSpPr>
        <p:spPr>
          <a:xfrm>
            <a:off x="109440" y="318960"/>
            <a:ext cx="776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70c0"/>
                </a:solidFill>
                <a:latin typeface="Calibri"/>
              </a:rPr>
              <a:t>SREDSTVA NAMENJENA DOGOVOROM ZA RAZVOJ REGIJ V OKVIRU O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TextBox 2"/>
          <p:cNvSpPr/>
          <p:nvPr/>
        </p:nvSpPr>
        <p:spPr>
          <a:xfrm>
            <a:off x="217440" y="1674720"/>
            <a:ext cx="8058240" cy="49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Zagotavljanje sredstev v okviru OP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Calibri"/>
                <a:ea typeface="Arial"/>
              </a:rPr>
              <a:t>Sredstva identificirana v okviru prvega poziv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Calibri"/>
                <a:ea typeface="Arial"/>
              </a:rPr>
              <a:t>Sredstva tehnične prilagoditv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Calibri"/>
                <a:ea typeface="Arial"/>
              </a:rPr>
              <a:t>Še proste pravice porab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Calibri"/>
                <a:ea typeface="Arial"/>
              </a:rPr>
              <a:t>Dodatne pravice porab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Calibri"/>
                <a:ea typeface="Arial"/>
              </a:rPr>
              <a:t>Pokrivanje slovenske udeležbe iz državnega proračun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Večina sredstev namenjena predlogom regij (bottom-up), le na 7.2 „Izboljšanje regionalne mobilnosti“ predlogi države za projekte z močno regionalno komponento (top-dow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TextBox 1"/>
          <p:cNvSpPr/>
          <p:nvPr/>
        </p:nvSpPr>
        <p:spPr>
          <a:xfrm>
            <a:off x="109440" y="318960"/>
            <a:ext cx="776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70c0"/>
                </a:solidFill>
                <a:latin typeface="Calibri"/>
              </a:rPr>
              <a:t>Omejitve pri razporejanju pravic porab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TextBox 2"/>
          <p:cNvSpPr/>
          <p:nvPr/>
        </p:nvSpPr>
        <p:spPr>
          <a:xfrm>
            <a:off x="361800" y="1685880"/>
            <a:ext cx="80582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prerazporejanje pravic porabe ESRR in ESS med kohezijskima regijama ni mogoč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tematska osredotočenos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342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Arial"/>
              </a:rPr>
              <a:t>v ZKR najmanj 80 % vseh pravic porabe ESRR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342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Arial"/>
              </a:rPr>
              <a:t>VKR pa najmanj 50 % vseh pravic porabe ESRR nameni dvema ali več PO v okviru prednostnih osi: 1 do 4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za področje podnebnih sprememb se nameni najmanj 20 % pravic porab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TextBox 1"/>
          <p:cNvSpPr/>
          <p:nvPr/>
        </p:nvSpPr>
        <p:spPr>
          <a:xfrm>
            <a:off x="731880" y="209520"/>
            <a:ext cx="67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70c0"/>
                </a:solidFill>
                <a:latin typeface="Calibri"/>
              </a:rPr>
              <a:t>Sklepi VRS - sprememba OP  1/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TextBox 2"/>
          <p:cNvSpPr/>
          <p:nvPr/>
        </p:nvSpPr>
        <p:spPr>
          <a:xfrm>
            <a:off x="255600" y="1663560"/>
            <a:ext cx="8559720" cy="42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lada Republike Slovenije je potrdila 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izhodišča za spremembo OP EKP 2014–2020</a:t>
            </a: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 in predvidene prerazporeditve sredstev med vsebinami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lada Republike Slovenije nalaga SVRK, da skladno s potrjenimi izhodišči za spremembo OP EKP pripravi tudi ustrezno spremembo 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Partnerskega sporazuma za obdobje 2014-2020</a:t>
            </a: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lada Republike Slovenije nalaga SVRK, da OP EKP 2014–2020, v skladu s sprejetimi izhodišči, 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tehnično uskladi in posreduje v potrditev Evropski komisiji</a:t>
            </a: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Box 1"/>
          <p:cNvSpPr/>
          <p:nvPr/>
        </p:nvSpPr>
        <p:spPr>
          <a:xfrm>
            <a:off x="584280" y="222120"/>
            <a:ext cx="728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70c0"/>
                </a:solidFill>
                <a:latin typeface="Calibri"/>
              </a:rPr>
              <a:t>Sklepi VRS - VRS sprememba OP  2/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TextBox 2"/>
          <p:cNvSpPr/>
          <p:nvPr/>
        </p:nvSpPr>
        <p:spPr>
          <a:xfrm>
            <a:off x="255600" y="1101600"/>
            <a:ext cx="859644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lada Republike Slovenije je potrdila 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dodelitev dodatnih pravic porabe </a:t>
            </a: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P EKP in pripadajoče slovenske udeležbe 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v skupni višini 225 milijonov evrov. </a:t>
            </a: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 tem dinamika porabe sredstev v obdobju od 2017 do 2020 ne sme prekoračiti zgornjega obsega sredstev predvidenega v programu stabilnosti  za namen izvajanja EKP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lada Republike Slovenije 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soglaša z začetkom izvajanja </a:t>
            </a: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predvidenih finančnih okvirih spremenjenega OP 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še pred uradno potrditvijo</a:t>
            </a: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 OP EKP 2014-2020 s strani Evropske komisije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peracije, ki bodo izbrane v okviru 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dodatnih pravic porabe</a:t>
            </a: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, morajo prispevati k 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doseganju ciljev in kazalnikov </a:t>
            </a: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a posamezni prednostni naložbi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extBox 1"/>
          <p:cNvSpPr/>
          <p:nvPr/>
        </p:nvSpPr>
        <p:spPr>
          <a:xfrm>
            <a:off x="657360" y="35568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70c0"/>
                </a:solidFill>
                <a:latin typeface="Calibri"/>
              </a:rPr>
              <a:t>Sklepi VRS - VRS sprememba OP  3/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TextBox 2"/>
          <p:cNvSpPr/>
          <p:nvPr/>
        </p:nvSpPr>
        <p:spPr>
          <a:xfrm>
            <a:off x="474840" y="1282680"/>
            <a:ext cx="79866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Gradivo predstavlja </a:t>
            </a: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izhodišče za spremembo Operativnega programa. 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Na osnovi tega bo </a:t>
            </a: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opravljeno podrobno usklajevanje s posredniškimi organi in Razvojnima svetoma obeh kohezijskih regij. 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otrjena izhodišča bodo posredovana </a:t>
            </a: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v soglasje na Odbor za spremljanje 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izvajanja Operativnega programa za izvajanje evropske kohezijske politike v obdobju 2014–2020 in sicer </a:t>
            </a: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13. 6. 2017. 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Končni predlog z vsemi utemeljitvami, vključno z okoljskim pregledom bo posredovan v pregled in potrditev Evropski komisiji in sicer </a:t>
            </a: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do 10. 7. 2017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Janika Gregorič Zečevič</cp:lastModifiedBy>
  <cp:lastPrinted>2017-06-05T04:42:39Z</cp:lastPrinted>
  <dcterms:modified xsi:type="dcterms:W3CDTF">2017-06-08T13:36:51Z</dcterms:modified>
  <cp:revision>163</cp:revision>
  <dc:subject/>
  <dc:title>PowerPoint Presentation</dc:title>
</cp:coreProperties>
</file>